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99AF-3D41-4E14-AE76-90DE524A2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064B-13CF-41D4-926B-5F847AA68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0C18-68F0-4814-9E2B-2B767328D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A016-7E19-482A-A533-B81A5D67D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C482-9A92-46B4-8350-8B73EEAEC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4E6C-81EC-4B0A-BA3B-B05F0CD24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72F26-6D6B-4EDC-9DE2-6FF6FA3B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77C8-4ED7-40F2-95FC-D190F406D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0A01-1C30-4340-9275-33F414DF4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26999-2F80-4790-AE79-52FFCEAA6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939B2-BB3D-4D39-9F2E-7B6ED8860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CBE4-C9FD-4626-94E0-F9A8AB81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F9BB-6B42-4D0F-AA29-D8DC5619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4A183-4BB3-4380-9A1F-11194058D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66653-0181-4785-9D6E-2E5FBD88E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DD214-5C7C-4ECE-A4F9-6687AA419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F1EA3-64E4-4E92-B8D1-E61082AE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EDEBB-9010-4EDA-A05D-A03AC04D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F75F-D5E6-4F71-ACB8-CA5895954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E0C2-737D-4A07-B3AB-2B60AB8B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CE31-7147-4E1B-B5A2-5697618D92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86D0-AA2E-43AD-881E-838DDE6E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4515-7830-48C0-A328-ED49AEE92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D9AF-7BA4-48C7-9375-CEFC8B47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F86FF-25E7-4CC4-98E1-5B2465C12B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43" name="Рисунок 7" descr=""/>
          <p:cNvPicPr/>
          <p:nvPr/>
        </p:nvPicPr>
        <p:blipFill>
          <a:blip r:embed="rId3"/>
          <a:stretch/>
        </p:blipFill>
        <p:spPr>
          <a:xfrm>
            <a:off x="6558120" y="2532240"/>
            <a:ext cx="5634000" cy="4344840"/>
          </a:xfrm>
          <a:prstGeom prst="rect">
            <a:avLst/>
          </a:prstGeom>
          <a:ln w="0">
            <a:noFill/>
          </a:ln>
        </p:spPr>
      </p:pic>
      <p:sp>
        <p:nvSpPr>
          <p:cNvPr id="44" name="Блок-схема: подготовка 8"/>
          <p:cNvSpPr/>
          <p:nvPr/>
        </p:nvSpPr>
        <p:spPr>
          <a:xfrm rot="2913600">
            <a:off x="-528120" y="4389840"/>
            <a:ext cx="4257720" cy="374796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Блок-схема: подготовка 8"/>
          <p:cNvSpPr/>
          <p:nvPr/>
        </p:nvSpPr>
        <p:spPr>
          <a:xfrm rot="2913600">
            <a:off x="124200" y="-770400"/>
            <a:ext cx="2170080" cy="253368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Блок-схема: подготовка 8"/>
          <p:cNvSpPr/>
          <p:nvPr/>
        </p:nvSpPr>
        <p:spPr>
          <a:xfrm rot="2913600">
            <a:off x="-414360" y="4390560"/>
            <a:ext cx="4195800" cy="41576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6" name="Блок-схема: подготовка 8"/>
          <p:cNvSpPr/>
          <p:nvPr/>
        </p:nvSpPr>
        <p:spPr>
          <a:xfrm rot="2913600">
            <a:off x="970560" y="1677240"/>
            <a:ext cx="9359640" cy="988524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-469800" y="4179960"/>
            <a:ext cx="6565680" cy="2678040"/>
          </a:xfrm>
          <a:prstGeom prst="rect">
            <a:avLst/>
          </a:prstGeom>
          <a:ln w="0">
            <a:noFill/>
          </a:ln>
        </p:spPr>
      </p:pic>
      <p:sp>
        <p:nvSpPr>
          <p:cNvPr id="167" name="Блок-схема: подготовка 8"/>
          <p:cNvSpPr/>
          <p:nvPr/>
        </p:nvSpPr>
        <p:spPr>
          <a:xfrm rot="2913600">
            <a:off x="8730720" y="-979200"/>
            <a:ext cx="4257720" cy="3746520"/>
          </a:xfrm>
          <a:prstGeom prst="pie">
            <a:avLst/>
          </a:prstGeom>
          <a:solidFill>
            <a:srgbClr val="c4d8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7627-2A43-488E-B4B9-58D0FA0744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Рисунок 6" descr=""/>
          <p:cNvPicPr/>
          <p:nvPr/>
        </p:nvPicPr>
        <p:blipFill>
          <a:blip r:embed="rId2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pic>
        <p:nvPicPr>
          <p:cNvPr id="210" name="Рисунок 7" descr="Изображение выглядит как человек, катается на лыжах&#10;&#10;Автоматически созданное описание"/>
          <p:cNvPicPr/>
          <p:nvPr/>
        </p:nvPicPr>
        <p:blipFill>
          <a:blip r:embed="rId3"/>
          <a:stretch/>
        </p:blipFill>
        <p:spPr>
          <a:xfrm>
            <a:off x="5373720" y="4076640"/>
            <a:ext cx="6818400" cy="2781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1111320"/>
            <a:ext cx="7385040" cy="324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Уровневый подход в создании объективных условий реализации Региональной программы воспит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Rectangle 1"/>
          <p:cNvSpPr/>
          <p:nvPr/>
        </p:nvSpPr>
        <p:spPr>
          <a:xfrm>
            <a:off x="0" y="5685120"/>
            <a:ext cx="3762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Утева Любовь Валерьевна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Директор МБУ ДО «ЦДО» с. Коче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4680"/>
            <a:ext cx="10515600" cy="97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Муниципальный уровень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Прямоугольник 3"/>
          <p:cNvSpPr/>
          <p:nvPr/>
        </p:nvSpPr>
        <p:spPr>
          <a:xfrm>
            <a:off x="1292400" y="1386000"/>
            <a:ext cx="2885760" cy="3179520"/>
          </a:xfrm>
          <a:prstGeom prst="rect">
            <a:avLst/>
          </a:prstGeom>
          <a:solidFill>
            <a:srgbClr val="a5a5a5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Овал 4"/>
          <p:cNvSpPr/>
          <p:nvPr/>
        </p:nvSpPr>
        <p:spPr>
          <a:xfrm>
            <a:off x="2324160" y="111456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5"/>
          <p:cNvSpPr/>
          <p:nvPr/>
        </p:nvSpPr>
        <p:spPr>
          <a:xfrm>
            <a:off x="2195640" y="1528920"/>
            <a:ext cx="733320" cy="7077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6"/>
          <p:cNvSpPr/>
          <p:nvPr/>
        </p:nvSpPr>
        <p:spPr>
          <a:xfrm>
            <a:off x="4503600" y="1373040"/>
            <a:ext cx="3251160" cy="3179880"/>
          </a:xfrm>
          <a:prstGeom prst="rect">
            <a:avLst/>
          </a:prstGeom>
          <a:solidFill>
            <a:srgbClr val="f4b183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оздание методических площадок по обобщению результативного опыта образовательных организаций в реализации рабочих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Объект 2"/>
          <p:cNvSpPr/>
          <p:nvPr/>
        </p:nvSpPr>
        <p:spPr>
          <a:xfrm>
            <a:off x="449280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Овал 8"/>
          <p:cNvSpPr/>
          <p:nvPr/>
        </p:nvSpPr>
        <p:spPr>
          <a:xfrm>
            <a:off x="6138720" y="1055520"/>
            <a:ext cx="733680" cy="733680"/>
          </a:xfrm>
          <a:prstGeom prst="ellipse">
            <a:avLst/>
          </a:prstGeom>
          <a:solidFill>
            <a:srgbClr val="fbe5d6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10"/>
          <p:cNvSpPr/>
          <p:nvPr/>
        </p:nvSpPr>
        <p:spPr>
          <a:xfrm>
            <a:off x="8102520" y="1420920"/>
            <a:ext cx="3229200" cy="3179520"/>
          </a:xfrm>
          <a:prstGeom prst="rect">
            <a:avLst/>
          </a:prstGeom>
          <a:solidFill>
            <a:srgbClr val="4472c4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беспечение объективного и своевременного предъявления результатов мониторинга качества реализации программ воспит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Объект 2"/>
          <p:cNvSpPr/>
          <p:nvPr/>
        </p:nvSpPr>
        <p:spPr>
          <a:xfrm>
            <a:off x="7916760" y="2309760"/>
            <a:ext cx="28098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Овал 12"/>
          <p:cNvSpPr/>
          <p:nvPr/>
        </p:nvSpPr>
        <p:spPr>
          <a:xfrm>
            <a:off x="9412200" y="1125360"/>
            <a:ext cx="733680" cy="733680"/>
          </a:xfrm>
          <a:prstGeom prst="ellipse">
            <a:avLst/>
          </a:prstGeom>
          <a:solidFill>
            <a:srgbClr val="dae3f3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472c4"/>
                </a:solidFill>
                <a:latin typeface="Calibr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бъект 2"/>
          <p:cNvSpPr/>
          <p:nvPr/>
        </p:nvSpPr>
        <p:spPr>
          <a:xfrm>
            <a:off x="1343160" y="2117880"/>
            <a:ext cx="2813040" cy="28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55a11"/>
                </a:solidFill>
                <a:latin typeface="Calibri"/>
              </a:rPr>
              <a:t>Разработка и реализация муниципальных программ воспитания и каникулярного отдых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c55a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Прямоугольник 15"/>
          <p:cNvSpPr/>
          <p:nvPr/>
        </p:nvSpPr>
        <p:spPr>
          <a:xfrm>
            <a:off x="0" y="3527280"/>
            <a:ext cx="3252960" cy="3181320"/>
          </a:xfrm>
          <a:prstGeom prst="rect">
            <a:avLst/>
          </a:prstGeom>
          <a:solidFill>
            <a:srgbClr val="92d050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рганизация и проведение конкурсов, слетов, фестивалей и мероприятий детских ,молодежных общественных объединений,  органов ученического самоуправления, волонтерских отрядов, имеющих воспитательный потенциа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Прямоугольник 17"/>
          <p:cNvSpPr/>
          <p:nvPr/>
        </p:nvSpPr>
        <p:spPr>
          <a:xfrm>
            <a:off x="3522600" y="3898800"/>
            <a:ext cx="2886120" cy="3179880"/>
          </a:xfrm>
          <a:prstGeom prst="rect">
            <a:avLst/>
          </a:prstGeom>
          <a:solidFill>
            <a:srgbClr val="ed7d31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Осуществления мониторинга профилактики безнадзорности и правонарушений несовершеннолетних обучаю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Прямоугольник 18"/>
          <p:cNvSpPr/>
          <p:nvPr/>
        </p:nvSpPr>
        <p:spPr>
          <a:xfrm>
            <a:off x="6637320" y="3817800"/>
            <a:ext cx="2886120" cy="3179880"/>
          </a:xfrm>
          <a:prstGeom prst="rect">
            <a:avLst/>
          </a:prstGeom>
          <a:solidFill>
            <a:srgbClr val="dbdbdb"/>
          </a:solidFill>
          <a:ln w="0">
            <a:noFill/>
          </a:ln>
          <a:effectLst>
            <a:outerShdw dist="38183" dir="8100000" blurRad="0" rotWithShape="0">
              <a:srgbClr val="c55a1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Координация взаимодействия субъектов воспитания на территории муниципалит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Овал 20"/>
          <p:cNvSpPr/>
          <p:nvPr/>
        </p:nvSpPr>
        <p:spPr>
          <a:xfrm>
            <a:off x="973080" y="3267000"/>
            <a:ext cx="733320" cy="73368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472c4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Овал 21"/>
          <p:cNvSpPr/>
          <p:nvPr/>
        </p:nvSpPr>
        <p:spPr>
          <a:xfrm>
            <a:off x="4562640" y="371952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Овал 22"/>
          <p:cNvSpPr/>
          <p:nvPr/>
        </p:nvSpPr>
        <p:spPr>
          <a:xfrm>
            <a:off x="7710480" y="3522600"/>
            <a:ext cx="733320" cy="733320"/>
          </a:xfrm>
          <a:prstGeom prst="ellipse">
            <a:avLst/>
          </a:prstGeom>
          <a:solidFill>
            <a:srgbClr val="ededed"/>
          </a:solidFill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b3838"/>
                </a:solidFill>
                <a:latin typeface="Calibri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Важно отметить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Полилиния: фигура 4"/>
          <p:cNvSpPr/>
          <p:nvPr/>
        </p:nvSpPr>
        <p:spPr>
          <a:xfrm>
            <a:off x="984240" y="1579680"/>
            <a:ext cx="2279520" cy="3571920"/>
          </a:xfrm>
          <a:prstGeom prst="pie">
            <a:avLst/>
          </a:prstGeom>
          <a:gradFill rotWithShape="0">
            <a:gsLst>
              <a:gs pos="0">
                <a:srgbClr val="8faadc"/>
              </a:gs>
              <a:gs pos="100000">
                <a:srgbClr val="4472c4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Полилиния: фигура 6"/>
          <p:cNvSpPr/>
          <p:nvPr/>
        </p:nvSpPr>
        <p:spPr>
          <a:xfrm rot="10800000">
            <a:off x="3908160" y="1579320"/>
            <a:ext cx="2354040" cy="3733560"/>
          </a:xfrm>
          <a:prstGeom prst="pie">
            <a:avLst/>
          </a:prstGeom>
          <a:gradFill rotWithShape="0">
            <a:gsLst>
              <a:gs pos="0">
                <a:srgbClr val="f4b183"/>
              </a:gs>
              <a:gs pos="100000">
                <a:srgbClr val="ed7d3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Полилиния: фигура 8"/>
          <p:cNvSpPr/>
          <p:nvPr/>
        </p:nvSpPr>
        <p:spPr>
          <a:xfrm>
            <a:off x="6805440" y="1579680"/>
            <a:ext cx="2581560" cy="3768480"/>
          </a:xfrm>
          <a:prstGeom prst="pie">
            <a:avLst/>
          </a:prstGeom>
          <a:gradFill rotWithShape="0">
            <a:gsLst>
              <a:gs pos="0">
                <a:srgbClr val="c9c9c9"/>
              </a:gs>
              <a:gs pos="100000">
                <a:srgbClr val="a5a5a5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Полилиния: фигура 10"/>
          <p:cNvSpPr/>
          <p:nvPr/>
        </p:nvSpPr>
        <p:spPr>
          <a:xfrm>
            <a:off x="9704520" y="1584360"/>
            <a:ext cx="2263680" cy="3289320"/>
          </a:xfrm>
          <a:prstGeom prst="pie">
            <a:avLst/>
          </a:prstGeom>
          <a:gradFill rotWithShape="0">
            <a:gsLst>
              <a:gs pos="0">
                <a:srgbClr val="ffd966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Рисунок 11" descr=""/>
          <p:cNvPicPr/>
          <p:nvPr/>
        </p:nvPicPr>
        <p:blipFill>
          <a:blip r:embed="rId1"/>
          <a:stretch/>
        </p:blipFill>
        <p:spPr>
          <a:xfrm>
            <a:off x="1746360" y="1816200"/>
            <a:ext cx="614160" cy="61416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2" descr=""/>
          <p:cNvPicPr/>
          <p:nvPr/>
        </p:nvPicPr>
        <p:blipFill>
          <a:blip r:embed="rId2"/>
          <a:stretch/>
        </p:blipFill>
        <p:spPr>
          <a:xfrm>
            <a:off x="4672080" y="1816200"/>
            <a:ext cx="560160" cy="56016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3" descr=""/>
          <p:cNvPicPr/>
          <p:nvPr/>
        </p:nvPicPr>
        <p:blipFill>
          <a:blip r:embed="rId3"/>
          <a:stretch/>
        </p:blipFill>
        <p:spPr>
          <a:xfrm>
            <a:off x="7569360" y="1816200"/>
            <a:ext cx="671400" cy="67140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4" descr=""/>
          <p:cNvPicPr/>
          <p:nvPr/>
        </p:nvPicPr>
        <p:blipFill>
          <a:blip r:embed="rId4"/>
          <a:stretch/>
        </p:blipFill>
        <p:spPr>
          <a:xfrm>
            <a:off x="10468080" y="1816200"/>
            <a:ext cx="609480" cy="60948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5"/>
          <p:cNvSpPr/>
          <p:nvPr/>
        </p:nvSpPr>
        <p:spPr>
          <a:xfrm>
            <a:off x="1071720" y="2400480"/>
            <a:ext cx="1485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ластерная модель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6"/>
          <p:cNvSpPr/>
          <p:nvPr/>
        </p:nvSpPr>
        <p:spPr>
          <a:xfrm>
            <a:off x="1108080" y="3368520"/>
            <a:ext cx="19130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ариативность и решение разноплановых зада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7"/>
          <p:cNvSpPr/>
          <p:nvPr/>
        </p:nvSpPr>
        <p:spPr>
          <a:xfrm>
            <a:off x="4091040" y="2400480"/>
            <a:ext cx="1800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Показатели и индикаторы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8"/>
          <p:cNvSpPr/>
          <p:nvPr/>
        </p:nvSpPr>
        <p:spPr>
          <a:xfrm>
            <a:off x="4305240" y="3587760"/>
            <a:ext cx="1563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отовые показатели для каждой О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19"/>
          <p:cNvSpPr/>
          <p:nvPr/>
        </p:nvSpPr>
        <p:spPr>
          <a:xfrm>
            <a:off x="6988320" y="2390760"/>
            <a:ext cx="22827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Ресурс своб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ние имеющихся ресурсов и поиск новых в практической реализации муниципальной программы воспит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1"/>
          <p:cNvSpPr/>
          <p:nvPr/>
        </p:nvSpPr>
        <p:spPr>
          <a:xfrm>
            <a:off x="9710640" y="2400480"/>
            <a:ext cx="214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Конкретизац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пределена роль муниципалитета и поставлены конкретные задачи в региональной системе воспит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2"/>
          <p:cNvSpPr/>
          <p:nvPr/>
        </p:nvSpPr>
        <p:spPr>
          <a:xfrm>
            <a:off x="9977400" y="2789280"/>
            <a:ext cx="148428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Нижний колонтитул 4"/>
          <p:cNvSpPr/>
          <p:nvPr/>
        </p:nvSpPr>
        <p:spPr>
          <a:xfrm>
            <a:off x="3801960" y="6559560"/>
            <a:ext cx="426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50480" y="365040"/>
            <a:ext cx="112028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472c4"/>
                </a:solidFill>
                <a:latin typeface="Calibri Light"/>
              </a:rPr>
              <a:t>Обновление системы дополнительного образования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185760" y="1793520"/>
            <a:ext cx="8507520" cy="303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4472c4"/>
                </a:solidFill>
                <a:latin typeface="Calibri"/>
              </a:rPr>
              <a:t>Задачи направления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увеличение охвата дополнительным образованием детей (в том числе детей, проживающих в сельской местности, находящихся в трудной жизненной ситуации, детей с ограниченными возможностями здоровья (далее – ОВЗ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механизмов преемственности образовательных траекторий общего, профессионального, высшего образования с в дополнительным образование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обновление содержания, технологий и форматов дополнительного образования детей для удовлетворения индивидуальных запросов и решения задач социального и технологического развития региона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472c4"/>
                </a:solidFill>
                <a:latin typeface="Calibri"/>
              </a:rPr>
              <a:t>формирование эффективной межведомственной системы управления развитием дополнительного образования дет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Рисунок 4" descr=""/>
          <p:cNvPicPr/>
          <p:nvPr/>
        </p:nvPicPr>
        <p:blipFill>
          <a:blip r:embed="rId1"/>
          <a:stretch/>
        </p:blipFill>
        <p:spPr>
          <a:xfrm>
            <a:off x="7743960" y="3100320"/>
            <a:ext cx="3757320" cy="375768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2f5597">
                <a:alpha val="40000"/>
              </a:srgbClr>
            </a:outerShdw>
          </a:effectLst>
        </p:spPr>
      </p:pic>
      <p:sp>
        <p:nvSpPr>
          <p:cNvPr id="289" name="Прямоугольник 5"/>
          <p:cNvSpPr/>
          <p:nvPr/>
        </p:nvSpPr>
        <p:spPr>
          <a:xfrm>
            <a:off x="10002960" y="547560"/>
            <a:ext cx="19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Средства: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спользование потенциала неформального и информального образования (образовательный туризм, музейная и театральная педагогика, а также социальные медиа, блогинг и др.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интеграция и сетевое взаимодействие общего и дополнительного образования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геймификация (образовательных игр) и др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4472c4"/>
                </a:solidFill>
                <a:latin typeface="Calibri Light"/>
              </a:rPr>
              <a:t>Возможные проекты в развитии дополнительного образования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43000" y="1378080"/>
            <a:ext cx="11795040" cy="479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включение в содержание дополнительных общеобразовательных программ всех направленностей модуля или воспитательного компонента, направленного на формирование у детей и молодежи общероссийской гражданской идентичности, патриотизма, гражданской ответственности, чувства гордости за историю России, воспитание культуры межнационального общения;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азработка и внедрение организациями дополнительного образования детей программ воспитания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1400" indent="-221400">
              <a:lnSpc>
                <a:spcPct val="90000"/>
              </a:lnSpc>
              <a:spcBef>
                <a:spcPts val="1001"/>
              </a:spcBef>
              <a:buClr>
                <a:srgbClr val="4472c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472c4"/>
                </a:solidFill>
                <a:latin typeface="Calibri"/>
              </a:rPr>
              <a:t>реализация образовательных моделей, обеспечивающих применение получаемых знаний для решения актуальных проблем сообщества (хакатоны, практики, профориентационные каникулы, социально-значимые проекты, например, «Я – гражданин», Менторские КРУГи и пр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5-07T08:34:05Z</dcterms:created>
  <dc:creator>User Obstinate</dc:creator>
  <dc:description/>
  <dc:language>en-US</dc:language>
  <cp:lastModifiedBy>user</cp:lastModifiedBy>
  <dcterms:modified xsi:type="dcterms:W3CDTF">2021-08-16T12:19:10Z</dcterms:modified>
  <cp:revision>21</cp:revision>
  <dc:subject/>
  <dc:title>Презентация PowerPoint</dc:title>
</cp:coreProperties>
</file>